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B9E0B3-5773-484B-A16C-4537EEA63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610FF-3B30-4362-8A03-5C1841DBA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A11DB6-F551-40DD-89B4-30CE4037D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1945EF-9B99-4472-9CBF-137C5B6DD1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EEA42-8512-4C2A-B66B-C6EDFEE5B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6D13E-3395-45F9-AC0E-7CF329CCB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80F28-C371-4C8D-B2B9-3B4986F2E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8A6A5-61C4-4E2A-BB64-5A4491E45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50DA7-CE4B-4F58-B8D7-DC50B3370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FBE32-F07D-437D-BF16-BF1162498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E28D3-5721-4A81-ACCE-3CB8E60B3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A2BEC-7D55-4D06-846F-6170A731DE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2ECB0-57A0-43B1-B8D1-D3663BF057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Arial"/>
              </a:rPr>
              <a:t>MIJLOACE DE MĂSURARE</a:t>
            </a:r>
            <a:r>
              <a:rPr b="0" lang="ro-RO"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42" name="PlaceHolder 2"/>
          <p:cNvSpPr>
            <a:spLocks noGrp="1"/>
          </p:cNvSpPr>
          <p:nvPr>
            <p:ph type="subTitle"/>
          </p:nvPr>
        </p:nvSpPr>
        <p:spPr>
          <a:xfrm>
            <a:off x="533520" y="3886200"/>
            <a:ext cx="8076960" cy="53352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pentru Cultură de specialitate pentru Şcolile de Arte şi Meserii – domeniul mecanic, clasa a IX</a:t>
            </a:r>
            <a:r>
              <a:rPr b="0" i="1" lang="it-IT" sz="1000" spc="-1" strike="noStrike">
                <a:solidFill>
                  <a:srgbClr val="000000"/>
                </a:solidFill>
                <a:latin typeface="Arial"/>
              </a:rPr>
              <a:t>-a</a:t>
            </a:r>
            <a:r>
              <a:rPr b="0" lang="it-IT" sz="1000" spc="-1" strike="noStrike">
                <a:solidFill>
                  <a:srgbClr val="000000"/>
                </a:solidFill>
                <a:latin typeface="Arial"/>
              </a:rPr>
              <a:t>, Adriana Popescu)</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609480" y="6248520"/>
            <a:ext cx="2571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609480" y="1752120"/>
            <a:ext cx="4267440" cy="3886200"/>
          </a:xfrm>
          <a:prstGeom prst="rect">
            <a:avLst/>
          </a:prstGeom>
          <a:noFill/>
          <a:ln w="0">
            <a:noFill/>
          </a:ln>
        </p:spPr>
        <p:txBody>
          <a:bodyPr anchor="t">
            <a:normAutofit/>
          </a:bodyPr>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jloacele de măsurare reprezintă totalitatea mijloacelor tehnice cu care se determină cantitativ mărimea de măsurat. Şabloanele sunt măsuri terminale executate din tablă cu diferite profile, în funcție de piesele care se controlează. </a:t>
            </a:r>
            <a:r>
              <a:rPr b="0" lang="en-US" sz="1200" spc="-1" strike="noStrike">
                <a:solidFill>
                  <a:srgbClr val="000000"/>
                </a:solidFill>
                <a:latin typeface="Arial"/>
              </a:rPr>
              <a:t>Micrometrul este un aparat la care deplasările unghiulare se transform</a:t>
            </a:r>
            <a:r>
              <a:rPr b="0" lang="ro-RO" sz="1200" spc="-1" strike="noStrike">
                <a:solidFill>
                  <a:srgbClr val="000000"/>
                </a:solidFill>
                <a:latin typeface="Arial"/>
              </a:rPr>
              <a:t>ă</a:t>
            </a:r>
            <a:r>
              <a:rPr b="0" lang="en-US" sz="1200" spc="-1" strike="noStrike">
                <a:solidFill>
                  <a:srgbClr val="000000"/>
                </a:solidFill>
                <a:latin typeface="Arial"/>
              </a:rPr>
              <a:t> în deplasări liniare și care este utilizat pentru măsurarea lungimilor.[…]</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ngimea este o mărime fizică fundamentală în Sistemul Internaţional</a:t>
            </a:r>
            <a:r>
              <a:rPr b="0" lang="en-US" sz="1200" spc="-1" strike="noStrike">
                <a:solidFill>
                  <a:srgbClr val="000000"/>
                </a:solidFill>
                <a:latin typeface="Arial"/>
              </a:rPr>
              <a:t>.</a:t>
            </a:r>
            <a:r>
              <a:rPr b="0" lang="ro-RO" sz="1200" spc="-1" strike="noStrike">
                <a:solidFill>
                  <a:srgbClr val="000000"/>
                </a:solidFill>
                <a:latin typeface="Arial"/>
              </a:rPr>
              <a:t> Unitatea de măsură pentru lungime este metrul, m. </a:t>
            </a:r>
            <a:r>
              <a:rPr b="0" lang="en-US" sz="1200" spc="-1" strike="noStrike">
                <a:solidFill>
                  <a:srgbClr val="000000"/>
                </a:solidFill>
                <a:latin typeface="Arial"/>
              </a:rPr>
              <a:t>[…]</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icla plan-paralelă este o măsură terminală cu valoare unică, din sticlă, cu suprafeţe plane şi paralele.</a:t>
            </a:r>
            <a:r>
              <a:rPr b="0" lang="en-US" sz="1200" spc="-1" strike="noStrike">
                <a:solidFill>
                  <a:srgbClr val="000000"/>
                </a:solidFill>
                <a:latin typeface="Arial"/>
              </a:rPr>
              <a:t>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le plan-paralele sunt măsuri terminale a căror mărime este determinată de distanţa dintre două suprafeţe de măsurare plane şi paralele.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tilizarea calelor se bazează pe proprietatea lor de a adera una pe alta, pe suprafeţele de măsurare, printr-o uşoară apăsare şi o mişcare tangenţială de deplasare, formându-se un bloc de cale, care poate avea orice dimensiune. Dimensiunea blocului de cale este egală cu suma lungimilor calelor componente.</a:t>
            </a:r>
            <a:r>
              <a:rPr b="0" lang="en-US" sz="1200" spc="-1" strike="noStrike">
                <a:solidFill>
                  <a:srgbClr val="000000"/>
                </a:solidFill>
                <a:latin typeface="Arial"/>
              </a:rPr>
              <a:t>[…]</a:t>
            </a:r>
            <a:r>
              <a:rPr b="0" lang="ro-RO" sz="1200" spc="-1" strike="noStrike">
                <a:solidFill>
                  <a:srgbClr val="000000"/>
                </a:solidFill>
                <a:latin typeface="Arial"/>
              </a:rPr>
              <a:t> </a:t>
            </a:r>
            <a:endParaRPr b="0" lang="en-US" sz="1200" spc="-1" strike="noStrike">
              <a:solidFill>
                <a:srgbClr val="000000"/>
              </a:solidFill>
              <a:latin typeface="Arial"/>
            </a:endParaRPr>
          </a:p>
        </p:txBody>
      </p:sp>
      <p:pic>
        <p:nvPicPr>
          <p:cNvPr id="47" name="Picture 8" descr=""/>
          <p:cNvPicPr/>
          <p:nvPr/>
        </p:nvPicPr>
        <p:blipFill>
          <a:blip r:embed="rId1"/>
          <a:stretch/>
        </p:blipFill>
        <p:spPr>
          <a:xfrm>
            <a:off x="5257800" y="1752480"/>
            <a:ext cx="2943360" cy="301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sificarea calibrelor netede:</a:t>
            </a: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piesa pe care o controlează:</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rbori</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lezaj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iametrul limită care verifică piesel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trece T </a:t>
            </a:r>
            <a:r>
              <a:rPr b="0" lang="en-GB" sz="1200" spc="-1" strike="noStrike">
                <a:solidFill>
                  <a:srgbClr val="000000"/>
                </a:solidFill>
                <a:latin typeface="Arial"/>
              </a:rPr>
              <a:t>[…]</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nu trece NT</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estina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lucru</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control</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recep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ntracalib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6-15T12:31:25Z</dcterms:modified>
  <cp:revision>29</cp:revision>
  <dc:subject/>
  <dc:title>MIJLOACE DE MĂSUR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